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19.pct" ContentType="image/x-pict"/>
  <Override PartName="/ppt/media/image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2.pct" ContentType="image/x-pict"/>
  <Override PartName="/ppt/media/image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5.jpeg" ContentType="image/jpeg"/>
  <Override PartName="/ppt/media/image10.png" ContentType="image/png"/>
  <Override PartName="/ppt/media/image27.png" ContentType="image/png"/>
  <Override PartName="/ppt/media/image1.pct" ContentType="image/x-pict"/>
  <Override PartName="/ppt/media/image34.png" ContentType="image/png"/>
  <Override PartName="/ppt/media/image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CC1-E2B2-4A52-8D22-91BBA413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7C9-5DB1-4BEF-B20A-74DFDBDA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287-341A-47F4-AD42-BA953D26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45C-6E0D-4A37-8434-69D03603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4A8-9AAC-4465-8324-F27B2D13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EDBB-87A2-4D21-B8DD-A4D94B02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4621-2F5F-4A44-87AF-6D130BC5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1B4C-B5F2-45B9-9B6B-25EFACDF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62D-BC14-44FF-A99E-9BE04DC0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BA4-1629-4E1D-8680-E39D3EDA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A68-9E2E-4459-840A-4FE40C20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D8AE-75E4-46A2-80D6-DA96ECD2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B9D1-6EC4-4447-A860-645EB4A32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cs.berkeley.edu/Pubs/TechRpts/2006/EECS-2006-104.html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534520" cy="3700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981080"/>
            <a:ext cx="9524880" cy="42674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2320" y="914400"/>
            <a:ext cx="846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ative Genomics with GBrowse_s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don Mc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206360"/>
            <a:ext cx="88390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9680" y="533520"/>
            <a:ext cx="89280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905040"/>
            <a:ext cx="849816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4024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6040" y="369720"/>
            <a:ext cx="82551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899480" cy="5187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09680" y="30492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n on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846840" cy="5194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831320" y="53352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Insertions/Dele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2360" y="1405080"/>
            <a:ext cx="8102520" cy="4051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04920" y="5335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ing Indels with gri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008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33720" y="990720"/>
            <a:ext cx="60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 Gen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40040" y="1754280"/>
            <a:ext cx="5257800" cy="3340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52480" y="7621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(un)popular popup ball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t comparative genomic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view the data with GBrowse_sy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3160" y="1252440"/>
            <a:ext cx="8800920" cy="4356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08000" y="5335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gene anno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160" y="687240"/>
            <a:ext cx="9016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50920" y="351000"/>
            <a:ext cx="6845400" cy="61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915840"/>
            <a:ext cx="9169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8560" y="299880"/>
            <a:ext cx="5550120" cy="6261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715000" y="38098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e30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28195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e30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60199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e30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867640" cy="1643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705720" y="304920"/>
            <a:ext cx="304560" cy="2057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9000" y="99072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 eleg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576440" y="2859120"/>
            <a:ext cx="5994360" cy="114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905120" y="4648320"/>
            <a:ext cx="5613120" cy="1473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9720" y="320040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 briggs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6040" y="52578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 reman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2819520"/>
            <a:ext cx="304920" cy="1218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4724280"/>
            <a:ext cx="304560" cy="1219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6518160" cy="3741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843920" y="914400"/>
            <a:ext cx="45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inspection of an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47720" y="1981080"/>
            <a:ext cx="178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46840" cy="4168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21680" y="99072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ative gene lo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98200" y="6858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ing Al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53080" cy="255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43000" y="3938760"/>
            <a:ext cx="64850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49440" y="1371600"/>
            <a:ext cx="784512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975040" y="68580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ical Genome Align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2666880"/>
            <a:ext cx="152640" cy="381240"/>
          </a:xfrm>
          <a:prstGeom prst="downArrow">
            <a:avLst>
              <a:gd name="adj1" fmla="val 50000"/>
              <a:gd name="adj2" fmla="val 62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2767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45720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36280" y="2530440"/>
            <a:ext cx="62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k repe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eatMasker [97] and Tandem Repeats Finder, nmerge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91760" y="3124080"/>
            <a:ext cx="274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orthologous reg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ERCATOR, orthocluster, etc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93560" y="3886200"/>
            <a:ext cx="232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eotide-level align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ECAN, MAVID, etc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4200" y="4572000"/>
            <a:ext cx="23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processing (GE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0384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29320" y="397656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05320" y="32623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76840" y="320040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28280" y="510552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68280" y="2057400"/>
            <a:ext cx="217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w genomic sequ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49440" y="1371600"/>
            <a:ext cx="784512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975040" y="68580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fly” sequence alignment view (definit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AX-based image configuration (probab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image rendering? (may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: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gmod.org/wiki/GBrowse_s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55308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93720" y="617400"/>
            <a:ext cx="75751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d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tt C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son Staj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mBase Cu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ton University Genome Sequencing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cs.berkeley.edu/Pubs/TechRpts/2006/EECS-2006-10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rot="2488200">
            <a:off x="6895800" y="1507680"/>
            <a:ext cx="633240" cy="2121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4495680" cy="600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7467480" y="5700600"/>
            <a:ext cx="131472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2568600" cy="2971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2160720" cy="1793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352680" y="457200"/>
            <a:ext cx="3272040" cy="833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 flipH="1">
            <a:off x="1676520" y="3429000"/>
            <a:ext cx="15681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1800" y="83808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0800" y="1522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13716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Brow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9200" y="312408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038480" y="5334120"/>
            <a:ext cx="4648320" cy="1276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295880" y="4876920"/>
            <a:ext cx="34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 UCSC-style conservation tr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62320" y="838080"/>
            <a:ext cx="38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GBrowse_sy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2133720"/>
            <a:ext cx="750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the Generic Genome Browser Package (GBrow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raphical multiple sequence alignment 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imposes sequence alignment data on genes and other  sequence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s two or more species to a central reference spec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6296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62840" y="68580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-lik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75438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2520" y="5334120"/>
            <a:ext cx="1295280" cy="685800"/>
          </a:xfrm>
          <a:prstGeom prst="flowChartMagneticDisk">
            <a:avLst/>
          </a:prstGeom>
          <a:solidFill>
            <a:srgbClr val="e30507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3080" y="4800600"/>
            <a:ext cx="1447920" cy="16002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29080" y="4952880"/>
            <a:ext cx="1143000" cy="1143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520" y="4572000"/>
            <a:ext cx="1295280" cy="6858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520" y="6095880"/>
            <a:ext cx="1295280" cy="685800"/>
          </a:xfrm>
          <a:prstGeom prst="flowChartMagneticDisk">
            <a:avLst/>
          </a:prstGeom>
          <a:solidFill>
            <a:srgbClr val="1537e3">
              <a:alpha val="7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62800" y="5029200"/>
            <a:ext cx="1523880" cy="68580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160" y="3276720"/>
            <a:ext cx="149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ow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97520" y="5181480"/>
            <a:ext cx="76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s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24080" y="15840"/>
            <a:ext cx="3124440" cy="1355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1240" y="52578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syn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77120" y="3429000"/>
            <a:ext cx="176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3505320"/>
            <a:ext cx="533160" cy="990360"/>
          </a:xfrm>
          <a:prstGeom prst="upArrow">
            <a:avLst>
              <a:gd name="adj1" fmla="val 50000"/>
              <a:gd name="adj2" fmla="val 4643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81720" y="3581280"/>
            <a:ext cx="533160" cy="990720"/>
          </a:xfrm>
          <a:prstGeom prst="upArrow">
            <a:avLst>
              <a:gd name="adj1" fmla="val 50000"/>
              <a:gd name="adj2" fmla="val 4645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3116400">
            <a:off x="2220840" y="3211200"/>
            <a:ext cx="587160" cy="1524240"/>
          </a:xfrm>
          <a:prstGeom prst="upDownArrow">
            <a:avLst>
              <a:gd name="adj1" fmla="val 50000"/>
              <a:gd name="adj2" fmla="val 5167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2286000"/>
            <a:ext cx="3504960" cy="9144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8080" y="1447920"/>
            <a:ext cx="533520" cy="685800"/>
          </a:xfrm>
          <a:prstGeom prst="upArrow">
            <a:avLst>
              <a:gd name="adj1" fmla="val 41667"/>
              <a:gd name="adj2" fmla="val 5929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18483600">
            <a:off x="6716520" y="3211560"/>
            <a:ext cx="587160" cy="1523880"/>
          </a:xfrm>
          <a:prstGeom prst="upDownArrow">
            <a:avLst>
              <a:gd name="adj1" fmla="val 50000"/>
              <a:gd name="adj2" fmla="val 5166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33360" y="6629400"/>
            <a:ext cx="357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es config.                     Master conf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97960" cy="5810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93080" y="22860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_syn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080" y="91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2680" y="61722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6200" y="61866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7880" y="91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4:54:05Z</dcterms:created>
  <dc:creator>Sheldon  Mckay</dc:creator>
  <dc:description/>
  <dc:language>en-US</dc:language>
  <cp:lastModifiedBy>GMOD / NESCent</cp:lastModifiedBy>
  <dcterms:modified xsi:type="dcterms:W3CDTF">2009-06-06T20:44:02Z</dcterms:modified>
  <cp:revision>17</cp:revision>
  <dc:subject/>
  <dc:title>PowerPoint Presentation</dc:title>
</cp:coreProperties>
</file>